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5.jpeg" ContentType="image/jpeg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EB6-DC55-40EC-8CBD-C8274C7A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2DB-D49B-4105-91E1-5914C5FD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6D4-37A8-44D2-AD84-B3FAA9E6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119-C1C1-4D08-ABB3-DFDC448D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CCB-7E9D-4105-9FBB-C708D5AE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251-9192-4234-BFEE-2443F02E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108-C6AA-4EB0-A13C-B11C7775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27F-A990-45CE-8196-D82B5F80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D8D-49F0-4ED0-BADB-2CA636B8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A4B-6FF2-42CE-9713-CAC20CC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CEB-1E67-45F4-9E1E-D81C791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643-BC62-48D1-A2F2-D1B978F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5F1A-CB41-4089-A621-FD8C55BF7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-groups.dcs.st-and.ac.uk/~history/Mathematicians/Galileo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326840" y="2925720"/>
            <a:ext cx="777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498760" y="4038480"/>
            <a:ext cx="4587840" cy="3749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33"/>
                </a:solidFill>
                <a:latin typeface="Optimum"/>
              </a:rPr>
              <a:t>Forces</a:t>
            </a:r>
            <a:endParaRPr b="0" lang="en-US" sz="1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010280" y="4834080"/>
            <a:ext cx="201960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68400" y="5184720"/>
            <a:ext cx="2522520" cy="13320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7"/>
          <p:cNvSpPr/>
          <p:nvPr/>
        </p:nvSpPr>
        <p:spPr>
          <a:xfrm>
            <a:off x="2690640" y="2820960"/>
            <a:ext cx="811440" cy="757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2690640" y="2820960"/>
            <a:ext cx="562320" cy="563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Freeform 9"/>
          <p:cNvSpPr/>
          <p:nvPr/>
        </p:nvSpPr>
        <p:spPr>
          <a:xfrm>
            <a:off x="2065320" y="3097080"/>
            <a:ext cx="1228680" cy="1054080"/>
          </a:xfrm>
          <a:prstGeom prst="pie">
            <a:avLst/>
          </a:pr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2697120" y="2828880"/>
            <a:ext cx="455760" cy="50472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3002040" y="2827440"/>
            <a:ext cx="212760" cy="365040"/>
          </a:xfrm>
          <a:prstGeom prst="pie">
            <a:avLst/>
          </a:prstGeom>
          <a:solidFill>
            <a:srgbClr val="e0e0e0"/>
          </a:solidFill>
          <a:ln cap="rnd" w="12600">
            <a:solidFill>
              <a:srgbClr val="e0e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Freeform 12"/>
          <p:cNvSpPr/>
          <p:nvPr/>
        </p:nvSpPr>
        <p:spPr>
          <a:xfrm>
            <a:off x="3263760" y="3070080"/>
            <a:ext cx="209520" cy="30960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3454560" y="3164040"/>
            <a:ext cx="41040" cy="23940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3187800" y="2916360"/>
            <a:ext cx="55440" cy="234720"/>
          </a:xfrm>
          <a:prstGeom prst="pie">
            <a:avLst/>
          </a:prstGeom>
          <a:solidFill>
            <a:srgbClr val="e0e0e0"/>
          </a:solidFill>
          <a:ln cap="rnd" w="12600">
            <a:solidFill>
              <a:srgbClr val="e0e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Freeform 15"/>
          <p:cNvSpPr/>
          <p:nvPr/>
        </p:nvSpPr>
        <p:spPr>
          <a:xfrm>
            <a:off x="3132000" y="3354480"/>
            <a:ext cx="103320" cy="13176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Freeform 16"/>
          <p:cNvSpPr/>
          <p:nvPr/>
        </p:nvSpPr>
        <p:spPr>
          <a:xfrm>
            <a:off x="2911320" y="2933640"/>
            <a:ext cx="11916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Freeform 17"/>
          <p:cNvSpPr/>
          <p:nvPr/>
        </p:nvSpPr>
        <p:spPr>
          <a:xfrm>
            <a:off x="6068880" y="2995560"/>
            <a:ext cx="277920" cy="41436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Freeform 18"/>
          <p:cNvSpPr/>
          <p:nvPr/>
        </p:nvSpPr>
        <p:spPr>
          <a:xfrm>
            <a:off x="2911320" y="2971800"/>
            <a:ext cx="100080" cy="7308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Freeform 19"/>
          <p:cNvSpPr/>
          <p:nvPr/>
        </p:nvSpPr>
        <p:spPr>
          <a:xfrm>
            <a:off x="3022560" y="3025800"/>
            <a:ext cx="27000" cy="9216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Freeform 20"/>
          <p:cNvSpPr/>
          <p:nvPr/>
        </p:nvSpPr>
        <p:spPr>
          <a:xfrm>
            <a:off x="2909880" y="2946240"/>
            <a:ext cx="7632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Freeform 21"/>
          <p:cNvSpPr/>
          <p:nvPr/>
        </p:nvSpPr>
        <p:spPr>
          <a:xfrm>
            <a:off x="2789280" y="2951280"/>
            <a:ext cx="68400" cy="6804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Freeform 22"/>
          <p:cNvSpPr/>
          <p:nvPr/>
        </p:nvSpPr>
        <p:spPr>
          <a:xfrm>
            <a:off x="3013200" y="3417840"/>
            <a:ext cx="60120" cy="34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Freeform 23"/>
          <p:cNvSpPr/>
          <p:nvPr/>
        </p:nvSpPr>
        <p:spPr>
          <a:xfrm>
            <a:off x="2798640" y="3013200"/>
            <a:ext cx="5076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Freeform 24"/>
          <p:cNvSpPr/>
          <p:nvPr/>
        </p:nvSpPr>
        <p:spPr>
          <a:xfrm>
            <a:off x="2830680" y="2990880"/>
            <a:ext cx="42840" cy="414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Freeform 25"/>
          <p:cNvSpPr/>
          <p:nvPr/>
        </p:nvSpPr>
        <p:spPr>
          <a:xfrm>
            <a:off x="2851200" y="3089160"/>
            <a:ext cx="4608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26"/>
          <p:cNvSpPr/>
          <p:nvPr/>
        </p:nvSpPr>
        <p:spPr>
          <a:xfrm>
            <a:off x="3013200" y="3389400"/>
            <a:ext cx="42840" cy="27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27"/>
          <p:cNvSpPr/>
          <p:nvPr/>
        </p:nvSpPr>
        <p:spPr>
          <a:xfrm>
            <a:off x="2874960" y="2978280"/>
            <a:ext cx="414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28"/>
          <p:cNvSpPr/>
          <p:nvPr/>
        </p:nvSpPr>
        <p:spPr>
          <a:xfrm>
            <a:off x="2830680" y="3046320"/>
            <a:ext cx="27000" cy="3348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Freeform 29"/>
          <p:cNvSpPr/>
          <p:nvPr/>
        </p:nvSpPr>
        <p:spPr>
          <a:xfrm>
            <a:off x="2859120" y="2959200"/>
            <a:ext cx="27000" cy="3024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Freeform 30"/>
          <p:cNvSpPr/>
          <p:nvPr/>
        </p:nvSpPr>
        <p:spPr>
          <a:xfrm>
            <a:off x="2881440" y="294624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Freeform 31"/>
          <p:cNvSpPr/>
          <p:nvPr/>
        </p:nvSpPr>
        <p:spPr>
          <a:xfrm>
            <a:off x="2894040" y="293832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Freeform 32"/>
          <p:cNvSpPr/>
          <p:nvPr/>
        </p:nvSpPr>
        <p:spPr>
          <a:xfrm>
            <a:off x="2855880" y="307512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Freeform 33"/>
          <p:cNvSpPr/>
          <p:nvPr/>
        </p:nvSpPr>
        <p:spPr>
          <a:xfrm>
            <a:off x="2868480" y="296064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2897280" y="296532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Freeform 35"/>
          <p:cNvSpPr/>
          <p:nvPr/>
        </p:nvSpPr>
        <p:spPr>
          <a:xfrm>
            <a:off x="3225960" y="3149640"/>
            <a:ext cx="34920" cy="9036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36"/>
          <p:cNvSpPr/>
          <p:nvPr/>
        </p:nvSpPr>
        <p:spPr>
          <a:xfrm>
            <a:off x="3225960" y="3149640"/>
            <a:ext cx="27000" cy="55440"/>
          </a:xfrm>
          <a:prstGeom prst="pie">
            <a:avLst/>
          </a:pr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37"/>
          <p:cNvSpPr/>
          <p:nvPr/>
        </p:nvSpPr>
        <p:spPr>
          <a:xfrm>
            <a:off x="2565360" y="3720960"/>
            <a:ext cx="95400" cy="88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Freeform 38"/>
          <p:cNvSpPr/>
          <p:nvPr/>
        </p:nvSpPr>
        <p:spPr>
          <a:xfrm>
            <a:off x="2602080" y="3713040"/>
            <a:ext cx="34920" cy="27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Freeform 39"/>
          <p:cNvSpPr/>
          <p:nvPr/>
        </p:nvSpPr>
        <p:spPr>
          <a:xfrm>
            <a:off x="5738760" y="2820960"/>
            <a:ext cx="663480" cy="762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Freeform 40"/>
          <p:cNvSpPr/>
          <p:nvPr/>
        </p:nvSpPr>
        <p:spPr>
          <a:xfrm>
            <a:off x="2482920" y="3284640"/>
            <a:ext cx="75960" cy="1825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Freeform 41"/>
          <p:cNvSpPr/>
          <p:nvPr/>
        </p:nvSpPr>
        <p:spPr>
          <a:xfrm>
            <a:off x="6026040" y="3173400"/>
            <a:ext cx="1228680" cy="1054080"/>
          </a:xfrm>
          <a:prstGeom prst="pie">
            <a:avLst/>
          </a:pr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Freeform 42"/>
          <p:cNvSpPr/>
          <p:nvPr/>
        </p:nvSpPr>
        <p:spPr>
          <a:xfrm>
            <a:off x="5973840" y="2828880"/>
            <a:ext cx="455400" cy="50472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Freeform 43"/>
          <p:cNvSpPr/>
          <p:nvPr/>
        </p:nvSpPr>
        <p:spPr>
          <a:xfrm>
            <a:off x="3249720" y="3147840"/>
            <a:ext cx="277560" cy="41436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Freeform 44"/>
          <p:cNvSpPr/>
          <p:nvPr/>
        </p:nvSpPr>
        <p:spPr>
          <a:xfrm>
            <a:off x="3021120" y="3112920"/>
            <a:ext cx="27000" cy="270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Freeform 45"/>
          <p:cNvSpPr/>
          <p:nvPr/>
        </p:nvSpPr>
        <p:spPr>
          <a:xfrm>
            <a:off x="5764320" y="3147840"/>
            <a:ext cx="277560" cy="414360"/>
          </a:xfrm>
          <a:prstGeom prst="pie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WordArt 46"/>
          <p:cNvSpPr txBox="1"/>
          <p:nvPr/>
        </p:nvSpPr>
        <p:spPr>
          <a:xfrm>
            <a:off x="1143000" y="380880"/>
            <a:ext cx="70102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ton's Laws of Motion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814840" y="152280"/>
            <a:ext cx="194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Black"/>
              </a:rPr>
              <a:t>WEIGH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8160" y="3086280"/>
            <a:ext cx="9066240" cy="2057400"/>
          </a:xfrm>
          <a:prstGeom prst="octagon">
            <a:avLst>
              <a:gd name="adj" fmla="val 36444"/>
            </a:avLst>
          </a:prstGeom>
          <a:solidFill>
            <a:srgbClr val="0000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49200" y="852480"/>
            <a:ext cx="660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measure of the gravitational fo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at a massive object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ch as a star or planet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uts on another m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6400800" y="168120"/>
            <a:ext cx="2514600" cy="2880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12960" y="3035160"/>
            <a:ext cx="91152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weigh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s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66ff"/>
                </a:solidFill>
                <a:latin typeface="Comic Sans MS"/>
              </a:rPr>
              <a:t>acceleration of gra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W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2480" y="5326200"/>
            <a:ext cx="91494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An object’s weight on planet Earth i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Comic Sans MS"/>
              </a:rPr>
              <a:t>Newton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is equal to it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mass in kilogram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time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Comic Sans MS"/>
              </a:rPr>
              <a:t>9.8 m/s</a:t>
            </a:r>
            <a:r>
              <a:rPr b="1" lang="en-US" sz="3000" spc="-1" strike="noStrike" baseline="30000">
                <a:solidFill>
                  <a:srgbClr val="ff66ff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20480" y="685800"/>
            <a:ext cx="613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o all objects with neglig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ir resistance accelerate tow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arth at the same ra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772360" y="2895480"/>
            <a:ext cx="629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can Newton’s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Law be u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explain how air resi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ffects the acceleration of 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ject in free fal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060200" y="5334120"/>
            <a:ext cx="702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es Newton’s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Law relate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 weight scale would read as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ve up and down on an eleva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0" descr="ch4q2_1"/>
          <p:cNvPicPr/>
          <p:nvPr/>
        </p:nvPicPr>
        <p:blipFill>
          <a:blip r:embed="rId1"/>
          <a:stretch/>
        </p:blipFill>
        <p:spPr>
          <a:xfrm>
            <a:off x="6705720" y="304920"/>
            <a:ext cx="209556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ch4q1_1"/>
          <p:cNvPicPr/>
          <p:nvPr/>
        </p:nvPicPr>
        <p:blipFill>
          <a:blip r:embed="rId2"/>
          <a:stretch/>
        </p:blipFill>
        <p:spPr>
          <a:xfrm>
            <a:off x="228600" y="2514600"/>
            <a:ext cx="2381400" cy="2486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757080" y="96840"/>
          <a:ext cx="7623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96840"/>
                    <a:ext cx="7623360" cy="1309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99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2411640" y="1446120"/>
            <a:ext cx="440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erpentine"/>
              </a:rPr>
              <a:t>“</a:t>
            </a:r>
            <a:r>
              <a:rPr b="0" lang="en-US" sz="3600" spc="-1" strike="noStrike">
                <a:solidFill>
                  <a:srgbClr val="0000ff"/>
                </a:solidFill>
                <a:latin typeface="Serpentine"/>
              </a:rPr>
              <a:t>Law of Interaction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204560" y="2332080"/>
            <a:ext cx="6777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33"/>
                </a:solidFill>
                <a:latin typeface="Comic Sans MS"/>
              </a:rPr>
              <a:t>Short Ver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For every action the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an equal and opposite reaction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222120" y="4138560"/>
            <a:ext cx="8715600" cy="2543400"/>
          </a:xfrm>
          <a:prstGeom prst="octagon">
            <a:avLst>
              <a:gd name="adj" fmla="val 29282"/>
            </a:avLst>
          </a:prstGeom>
          <a:solidFill>
            <a:srgbClr val="0000ff"/>
          </a:solidFill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4960" y="4160880"/>
            <a:ext cx="829872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Longer Ver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en one object exerts a force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bject, the second exerts a f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n the first that is equal in magnitud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ut opposite in dire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9"/>
          <p:cNvSpPr/>
          <p:nvPr/>
        </p:nvSpPr>
        <p:spPr>
          <a:xfrm>
            <a:off x="6324480" y="2714760"/>
            <a:ext cx="2543400" cy="1019160"/>
          </a:xfrm>
          <a:custGeom>
            <a:avLst/>
            <a:gdLst>
              <a:gd name="textAreaLeft" fmla="*/ 580680 w 2543400"/>
              <a:gd name="textAreaRight" fmla="*/ 1962720 w 2543400"/>
              <a:gd name="textAreaTop" fmla="*/ 232560 h 1019160"/>
              <a:gd name="textAreaBottom" fmla="*/ 78660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44400" y="353880"/>
            <a:ext cx="80078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wton’s Third Law deals with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cting on                           obje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396120" y="463680"/>
            <a:ext cx="2044440" cy="496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3587760" y="1035000"/>
            <a:ext cx="2502000" cy="520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378120" y="471600"/>
            <a:ext cx="204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wo fo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564720" y="1057320"/>
            <a:ext cx="253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wo diffe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008720" y="2031840"/>
            <a:ext cx="717732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Newton’s Third Law pairs of fo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Arial Black"/>
              </a:rPr>
              <a:t>always</a:t>
            </a: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,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sometimes</a:t>
            </a: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,    </a:t>
            </a:r>
            <a:r>
              <a:rPr b="1" lang="en-US" sz="3600" spc="-1" strike="noStrike">
                <a:solidFill>
                  <a:srgbClr val="66ff33"/>
                </a:solidFill>
                <a:latin typeface="Arial Black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cancel each other 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762120" y="3200400"/>
            <a:ext cx="55623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18960" y="4770360"/>
            <a:ext cx="85186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nly way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 for two forces to canc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each other out is for them to b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q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d opposite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 and act on the </a:t>
            </a:r>
            <a:r>
              <a:rPr b="1" lang="en-US" sz="3200" spc="-1" strike="noStrike">
                <a:solidFill>
                  <a:srgbClr val="00ffff"/>
                </a:solidFill>
                <a:latin typeface="Arial Black"/>
              </a:rPr>
              <a:t>same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 objec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762120" y="3808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arn more ab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wton’s Laws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 these link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ink1, link2, link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8" descr="newtcon"/>
          <p:cNvPicPr/>
          <p:nvPr/>
        </p:nvPicPr>
        <p:blipFill>
          <a:blip r:embed="rId1"/>
          <a:stretch/>
        </p:blipFill>
        <p:spPr>
          <a:xfrm>
            <a:off x="2133720" y="3200400"/>
            <a:ext cx="4886280" cy="3267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hammering nail"/>
          <p:cNvPicPr/>
          <p:nvPr/>
        </p:nvPicPr>
        <p:blipFill>
          <a:blip r:embed="rId2"/>
          <a:stretch/>
        </p:blipFill>
        <p:spPr>
          <a:xfrm>
            <a:off x="6781680" y="304920"/>
            <a:ext cx="159084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584360" y="758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53240" y="457200"/>
            <a:ext cx="626436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Newton’s Laws of mo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y to these situatio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n object rests in your h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 ball is tossed upw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car windshield hits a bu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 person sits on a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person jumps up from the flo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 baseball bat hits a base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truck and car hit head-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890880" y="2281320"/>
            <a:ext cx="13622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3890880" y="2281320"/>
            <a:ext cx="13622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3890880" y="2281320"/>
            <a:ext cx="13622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2" descr="tomandjerry"/>
          <p:cNvPicPr/>
          <p:nvPr/>
        </p:nvPicPr>
        <p:blipFill>
          <a:blip r:embed="rId1"/>
          <a:stretch/>
        </p:blipFill>
        <p:spPr>
          <a:xfrm>
            <a:off x="6858000" y="1295280"/>
            <a:ext cx="1362240" cy="2295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ch5q3_1"/>
          <p:cNvPicPr/>
          <p:nvPr/>
        </p:nvPicPr>
        <p:blipFill>
          <a:blip r:embed="rId2"/>
          <a:stretch/>
        </p:blipFill>
        <p:spPr>
          <a:xfrm>
            <a:off x="4876920" y="5029200"/>
            <a:ext cx="380988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2743200"/>
            <a:ext cx="9142560" cy="411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416400" y="228600"/>
            <a:ext cx="2492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Black"/>
              </a:rPr>
              <a:t>FRI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4520" y="884160"/>
            <a:ext cx="899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force that opposes the motion betwe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surfaces that are in 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993400" y="2208240"/>
            <a:ext cx="334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Serpentine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-104400" y="2986200"/>
            <a:ext cx="921924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Friction acts parallel to the surfaces in conta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d in the direction opposite to the motion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object or to the force tending to produ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ch motion.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Friction depends on the nature of the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contact and the smoothness of their surfa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81360" y="5757840"/>
            <a:ext cx="7274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Sliding friction is less than or equal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rting fr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-1440" y="0"/>
            <a:ext cx="9144000" cy="2362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00800" y="114480"/>
            <a:ext cx="91202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Friction is virtually independent of surface are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The friction force is directly propor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 the force pressing the two surf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gether (the normal for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86600" y="2817720"/>
            <a:ext cx="753552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The ratio of the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friction force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normal force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 is call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66ff"/>
                </a:solidFill>
                <a:latin typeface="Comic Sans MS"/>
              </a:rPr>
              <a:t>coefficient of friction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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122200" y="5288040"/>
            <a:ext cx="12578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Symbol"/>
                <a:ea typeface="Symbol"/>
              </a:rPr>
              <a:t>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011480" y="4678200"/>
            <a:ext cx="7747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6000" spc="-1" strike="noStrike" baseline="-25000">
                <a:solidFill>
                  <a:srgbClr val="0000ff"/>
                </a:solidFill>
                <a:latin typeface="Comic Sans MS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3733920" y="579132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955320" y="5821200"/>
            <a:ext cx="8953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Comic Sans MS"/>
              </a:rPr>
              <a:t>F</a:t>
            </a:r>
            <a:r>
              <a:rPr b="1" lang="en-US" sz="60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5843160" y="5103720"/>
            <a:ext cx="1863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 uni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0022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1920" y="152280"/>
            <a:ext cx="905652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uses of Mo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ristot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384-322 BC) believed that all obj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d a “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tural pla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” and that the tendency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 object was to reside in its “natural place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objects were classified into catego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 earth, water, air, or fi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tural moti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” occurred when an object sou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 return to its “natural place” after be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ved from it by some type of “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violent moti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natural state of an object was to 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 rest” in its “natural place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 keep an object moving would require a for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14080" y="485640"/>
            <a:ext cx="63849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se views remained wide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pported until the 1500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Galileo Galile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1564-164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pularized experim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6" descr="g_portrait89"/>
          <p:cNvPicPr/>
          <p:nvPr/>
        </p:nvPicPr>
        <p:blipFill>
          <a:blip r:embed="rId2"/>
          <a:stretch/>
        </p:blipFill>
        <p:spPr>
          <a:xfrm>
            <a:off x="7116840" y="304920"/>
            <a:ext cx="176040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11017728"/>
          <p:cNvPicPr/>
          <p:nvPr/>
        </p:nvPicPr>
        <p:blipFill>
          <a:blip r:embed="rId3"/>
          <a:stretch/>
        </p:blipFill>
        <p:spPr>
          <a:xfrm>
            <a:off x="457200" y="3657600"/>
            <a:ext cx="196200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2628360" y="3838680"/>
            <a:ext cx="635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saac Newt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1642–1727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posed that the tendency o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object was to maintain 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urrent state of mo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 flipV="1">
            <a:off x="969840" y="238680"/>
            <a:ext cx="7264440" cy="1716120"/>
          </a:xfrm>
          <a:prstGeom prst="pie">
            <a:avLst/>
          </a:prstGeom>
          <a:solidFill>
            <a:srgbClr val="0000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633840" y="258840"/>
            <a:ext cx="211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ERT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70360" y="884160"/>
            <a:ext cx="696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the tendency of an 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to resist any change in its mo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00520" y="2071800"/>
            <a:ext cx="87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ertia is a property of matter and does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pend on the position or location of the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AutoShape 6"/>
          <p:cNvSpPr/>
          <p:nvPr/>
        </p:nvSpPr>
        <p:spPr>
          <a:xfrm flipV="1">
            <a:off x="1015920" y="3072960"/>
            <a:ext cx="7264440" cy="1168560"/>
          </a:xfrm>
          <a:prstGeom prst="pie">
            <a:avLst/>
          </a:prstGeom>
          <a:solidFill>
            <a:srgbClr val="ff0033"/>
          </a:solidFill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26160" y="3078000"/>
            <a:ext cx="1527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178280" y="3703680"/>
            <a:ext cx="6931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 quantitative measure of inert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AutoShape 9"/>
          <p:cNvSpPr/>
          <p:nvPr/>
        </p:nvSpPr>
        <p:spPr>
          <a:xfrm flipV="1">
            <a:off x="2784600" y="4673520"/>
            <a:ext cx="3606840" cy="116856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675600" y="4648320"/>
            <a:ext cx="1762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 Black"/>
              </a:rPr>
              <a:t>FOR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813040" y="5303880"/>
            <a:ext cx="34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“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 push or pull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2738520" cy="2436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6400800" y="4411800"/>
            <a:ext cx="2430360" cy="2444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757080" y="96840"/>
          <a:ext cx="7623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96840"/>
                    <a:ext cx="7623360" cy="1309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ff66ff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Rectangle 3"/>
          <p:cNvSpPr/>
          <p:nvPr/>
        </p:nvSpPr>
        <p:spPr>
          <a:xfrm>
            <a:off x="2675160" y="1522440"/>
            <a:ext cx="346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0033"/>
                </a:solidFill>
                <a:latin typeface="Arial Black"/>
              </a:rPr>
              <a:t>Law of Inertia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-24840" y="2179800"/>
            <a:ext cx="9184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An object at rest remains at re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and an object in motion continues in mo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at a constant speed in a straight l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unless acted on by a nonzero net for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38160" y="4944960"/>
            <a:ext cx="9066240" cy="1676520"/>
          </a:xfrm>
          <a:prstGeom prst="hexagon">
            <a:avLst>
              <a:gd name="adj" fmla="val 18652"/>
              <a:gd name="vf" fmla="val 115470"/>
            </a:avLst>
          </a:prstGeom>
          <a:solidFill>
            <a:srgbClr val="00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52280" y="4267080"/>
            <a:ext cx="876312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 Black"/>
              </a:rPr>
              <a:t>* OR *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d600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The velocity of an object remains constant unless acted on by an unbalanced for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066680" y="228600"/>
            <a:ext cx="72201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t for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cting on an object is t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vector su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all the forces acting on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07240" y="3733920"/>
            <a:ext cx="623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an object is remaining at rest,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incorrect to assume that t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ces acting on the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can only conclude that t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t for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n the object is zer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9528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48640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31520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35268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815328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590920" y="26668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19112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3"/>
          <p:cNvSpPr/>
          <p:nvPr/>
        </p:nvSpPr>
        <p:spPr>
          <a:xfrm flipV="1">
            <a:off x="7238880" y="289512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7086600" y="1828800"/>
            <a:ext cx="6094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4114800" y="28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8153280" y="236196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715000" y="16765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1676520" y="2895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609588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752480" y="1905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579132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6095880" y="1905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1718640" y="198108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1672560" y="32004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2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8313120" y="21337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322400" y="175248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4198320" y="28195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7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191120" y="22096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103080" y="18288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5147640" y="29718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5265000" y="19051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9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6027120" y="312408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7322400" y="312408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8236800" y="27432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7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2674080" y="23623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 l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39" descr="book"/>
          <p:cNvPicPr/>
          <p:nvPr/>
        </p:nvPicPr>
        <p:blipFill>
          <a:blip r:embed="rId1"/>
          <a:stretch/>
        </p:blipFill>
        <p:spPr>
          <a:xfrm>
            <a:off x="6400800" y="4038480"/>
            <a:ext cx="251316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 flipV="1">
            <a:off x="952560" y="37800"/>
            <a:ext cx="7315200" cy="1752480"/>
          </a:xfrm>
          <a:prstGeom prst="pie">
            <a:avLst/>
          </a:prstGeom>
          <a:solidFill>
            <a:srgbClr val="0000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858400" y="60480"/>
            <a:ext cx="3490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QUILIBRIU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425240" y="655560"/>
            <a:ext cx="636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condition of an 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ch that it is not accelera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95560" y="2103480"/>
            <a:ext cx="84834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irst condition for equilibrium is th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 must be no net force acting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object. All forces must be balanc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79360" y="4165560"/>
            <a:ext cx="8585280" cy="2336760"/>
          </a:xfrm>
          <a:prstGeom prst="rect">
            <a:avLst/>
          </a:prstGeom>
          <a:solidFill>
            <a:srgbClr val="009900"/>
          </a:solidFill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58280" y="4227480"/>
            <a:ext cx="826668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00ffff"/>
                </a:solidFill>
                <a:latin typeface="Times New Roman"/>
              </a:rPr>
              <a:t>x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 0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ff99cc"/>
                </a:solidFill>
                <a:latin typeface="Times New Roman"/>
              </a:rPr>
              <a:t>y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00ffff"/>
                </a:solidFill>
                <a:latin typeface="Times New Roman"/>
              </a:rPr>
              <a:t>left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00ffff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00ffff"/>
                </a:solidFill>
                <a:latin typeface="Times New Roman"/>
              </a:rPr>
              <a:t>right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ff99cc"/>
                </a:solidFill>
                <a:latin typeface="Times New Roman"/>
              </a:rPr>
              <a:t>up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600" spc="-1" strike="noStrike">
                <a:solidFill>
                  <a:srgbClr val="ff99cc"/>
                </a:solidFill>
                <a:latin typeface="Times New Roman"/>
              </a:rPr>
              <a:t>F</a:t>
            </a:r>
            <a:r>
              <a:rPr b="1" lang="en-US" sz="4600" spc="-1" strike="noStrike" baseline="-25000">
                <a:solidFill>
                  <a:srgbClr val="ff99cc"/>
                </a:solidFill>
                <a:latin typeface="Times New Roman"/>
              </a:rPr>
              <a:t>down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2"/>
          <p:cNvGraphicFramePr/>
          <p:nvPr/>
        </p:nvGraphicFramePr>
        <p:xfrm>
          <a:off x="784080" y="173160"/>
          <a:ext cx="7596360" cy="13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73160"/>
                    <a:ext cx="7596360" cy="1304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ffff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9" name="Rectangle 3"/>
          <p:cNvSpPr/>
          <p:nvPr/>
        </p:nvSpPr>
        <p:spPr>
          <a:xfrm>
            <a:off x="2327760" y="1751040"/>
            <a:ext cx="469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Serpentine"/>
              </a:rPr>
              <a:t>Law of Acceleration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73600" y="2789280"/>
            <a:ext cx="8609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A net force causes an object to accel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in the direction of the net for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The acceleration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irectly proportional 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to the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 for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and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inversely proportion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to the object’s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mass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0760" y="2793960"/>
            <a:ext cx="9040680" cy="4011480"/>
          </a:xfrm>
          <a:prstGeom prst="rect">
            <a:avLst/>
          </a:prstGeom>
          <a:solidFill>
            <a:srgbClr val="00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" y="716040"/>
            <a:ext cx="799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17280" y="735120"/>
            <a:ext cx="76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793160" y="30240"/>
            <a:ext cx="173340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33"/>
                </a:solidFill>
                <a:latin typeface="Comic Sans MS"/>
              </a:rPr>
              <a:t>F</a:t>
            </a:r>
            <a:r>
              <a:rPr b="1" lang="en-US" sz="8000" spc="-1" strike="noStrike" baseline="-25000">
                <a:solidFill>
                  <a:srgbClr val="ff0033"/>
                </a:solidFill>
                <a:latin typeface="Comic Sans MS"/>
              </a:rPr>
              <a:t>net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1905120" y="1447920"/>
            <a:ext cx="15238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012760" y="1325520"/>
            <a:ext cx="1183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3757680" y="1216080"/>
            <a:ext cx="942840" cy="409680"/>
          </a:xfrm>
          <a:prstGeom prst="rightArrow">
            <a:avLst>
              <a:gd name="adj1" fmla="val 50000"/>
              <a:gd name="adj2" fmla="val 115081"/>
            </a:avLst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40920" y="716040"/>
            <a:ext cx="173340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33"/>
                </a:solidFill>
                <a:latin typeface="Comic Sans MS"/>
              </a:rPr>
              <a:t>F</a:t>
            </a:r>
            <a:r>
              <a:rPr b="1" lang="en-US" sz="8000" spc="-1" strike="noStrike" baseline="-25000">
                <a:solidFill>
                  <a:srgbClr val="ff0033"/>
                </a:solidFill>
                <a:latin typeface="Comic Sans MS"/>
              </a:rPr>
              <a:t>net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6555960" y="716040"/>
            <a:ext cx="76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7270560" y="716040"/>
            <a:ext cx="1183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8265240" y="716040"/>
            <a:ext cx="799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70640" y="2789280"/>
            <a:ext cx="858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The SI unit of force is the Newton, nam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in honor of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Isaac Newton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1"/>
          <a:stretch/>
        </p:blipFill>
        <p:spPr>
          <a:xfrm>
            <a:off x="5985000" y="3429000"/>
            <a:ext cx="3020760" cy="3290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5"/>
          <p:cNvSpPr/>
          <p:nvPr/>
        </p:nvSpPr>
        <p:spPr>
          <a:xfrm>
            <a:off x="59760" y="3932280"/>
            <a:ext cx="593208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One Newton of f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is the amount of f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needed to cause a 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kilogram mass to accel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at a rate of 1 m/s</a:t>
            </a:r>
            <a:r>
              <a:rPr b="1" lang="en-US" sz="3200" spc="-1" strike="noStrike" baseline="30000">
                <a:solidFill>
                  <a:srgbClr val="d60093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5975280" y="3460680"/>
            <a:ext cx="3022560" cy="3251160"/>
          </a:xfrm>
          <a:prstGeom prst="rect">
            <a:avLst/>
          </a:prstGeom>
          <a:noFill/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4T03:30:18Z</cp:lastPrinted>
  <dcterms:modified xsi:type="dcterms:W3CDTF">2011-01-23T19:23:59Z</dcterms:modified>
  <cp:revision>77</cp:revision>
  <dc:subject/>
  <dc:title>No Slide Title</dc:title>
</cp:coreProperties>
</file>